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045-F525-468F-8887-BB8A1483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4F0-532E-4610-B8EA-146A1228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46B-A358-499D-9E3C-B9BEF6D1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072-EA91-4A5A-9DB0-A76E43A6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069-6ED0-483E-8A0C-9557A9EF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136-23AD-41FB-9302-2909DBAA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8AC-2880-4A26-974C-F1DC48FC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005-CE4C-4A25-B1D8-949A9158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3E2-8B1B-488F-8926-1BFFF1FF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A6C-7F97-44F5-9A6B-C3B445A7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737-1067-4937-9437-C4D832C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2F4-EDD9-4F26-8992-AEDD829D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B993-33E4-4C20-983D-B5BF0E0A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Dynamic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Paul DF Ju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3581280"/>
            <a:ext cx="60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3581280"/>
            <a:ext cx="60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590920"/>
            <a:ext cx="99036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688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A   R   K   E    L    L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Microsoft Sans Serif"/>
              </a:rPr>
              <a:t>A   R   C   H   E   R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47920" y="2514600"/>
            <a:ext cx="4200480" cy="3887640"/>
            <a:chOff x="1447920" y="2514600"/>
            <a:chExt cx="4200480" cy="3887640"/>
          </a:xfrm>
        </p:grpSpPr>
        <p:sp>
          <p:nvSpPr>
            <p:cNvPr id="49" name=""/>
            <p:cNvSpPr/>
            <p:nvPr/>
          </p:nvSpPr>
          <p:spPr>
            <a:xfrm>
              <a:off x="5048280" y="5891040"/>
              <a:ext cx="6001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48160" y="5891040"/>
              <a:ext cx="6001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48040" y="5891040"/>
              <a:ext cx="6001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7920" y="5891040"/>
              <a:ext cx="6001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48160" y="5891040"/>
              <a:ext cx="5997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48040" y="5891040"/>
              <a:ext cx="6001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5891040"/>
              <a:ext cx="6001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8280" y="5330520"/>
              <a:ext cx="6001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48160" y="5330520"/>
              <a:ext cx="6001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8040" y="5330520"/>
              <a:ext cx="6001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47920" y="5330520"/>
              <a:ext cx="6001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48160" y="5330520"/>
              <a:ext cx="5997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48040" y="5330520"/>
              <a:ext cx="6001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7920" y="5330520"/>
              <a:ext cx="6001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48280" y="4773240"/>
              <a:ext cx="600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48160" y="4773240"/>
              <a:ext cx="600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48040" y="4773240"/>
              <a:ext cx="600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47920" y="4773240"/>
              <a:ext cx="600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8160" y="4773240"/>
              <a:ext cx="59976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8040" y="4773240"/>
              <a:ext cx="600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4773240"/>
              <a:ext cx="600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48280" y="4216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48160" y="4216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48040" y="4216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7920" y="4216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48160" y="4216320"/>
              <a:ext cx="59976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8040" y="4216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47920" y="4216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48280" y="3657240"/>
              <a:ext cx="600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48160" y="3657240"/>
              <a:ext cx="600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48040" y="3657240"/>
              <a:ext cx="600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7920" y="3657240"/>
              <a:ext cx="600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48160" y="3657240"/>
              <a:ext cx="599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48040" y="3657240"/>
              <a:ext cx="600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7920" y="3657240"/>
              <a:ext cx="600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48280" y="3100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48160" y="3100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48040" y="3100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7920" y="3100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48160" y="3100320"/>
              <a:ext cx="59976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48040" y="3100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100320"/>
              <a:ext cx="60012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48280" y="2514600"/>
              <a:ext cx="600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48160" y="2514600"/>
              <a:ext cx="600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8040" y="2514600"/>
              <a:ext cx="600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7920" y="2514600"/>
              <a:ext cx="600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48160" y="2514600"/>
              <a:ext cx="599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040" y="2514600"/>
              <a:ext cx="600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2514600"/>
              <a:ext cx="600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640224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310032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365724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7920" y="421632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7920" y="477324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920" y="533052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7920" y="2514600"/>
              <a:ext cx="0" cy="3376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48400" y="2514600"/>
              <a:ext cx="0" cy="3376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251460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920" y="5891040"/>
              <a:ext cx="0" cy="51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7920" y="5891040"/>
              <a:ext cx="4200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8400" y="5891040"/>
              <a:ext cx="0" cy="51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040" y="2514600"/>
              <a:ext cx="0" cy="38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8160" y="2514600"/>
              <a:ext cx="0" cy="38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7920" y="2514600"/>
              <a:ext cx="0" cy="38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8040" y="2514600"/>
              <a:ext cx="0" cy="38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8160" y="2514600"/>
              <a:ext cx="0" cy="38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8280" y="2514600"/>
              <a:ext cx="0" cy="38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880" y="457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29528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penalty for a gap but they should be avo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8380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es Score 1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06668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oints For a Mis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828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816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4804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792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86728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48040" y="5838840"/>
            <a:ext cx="599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780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48280" y="472140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724280"/>
            <a:ext cx="685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648320"/>
            <a:ext cx="71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48040" y="472140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472140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7800" y="472140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4828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4114800"/>
            <a:ext cx="685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114800"/>
            <a:ext cx="676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792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4780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191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4191120"/>
            <a:ext cx="600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780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4828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4816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792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581280"/>
            <a:ext cx="60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358128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4828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4816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048120"/>
            <a:ext cx="6764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478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48040" y="30481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78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4828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4816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4804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792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4780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48040" y="2462040"/>
            <a:ext cx="5997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7800" y="2462040"/>
            <a:ext cx="60012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4828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816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4804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792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4780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48040" y="19051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905120"/>
            <a:ext cx="60012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905120"/>
            <a:ext cx="0" cy="55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462040"/>
            <a:ext cx="0" cy="58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048120"/>
            <a:ext cx="0" cy="55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60504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164120"/>
            <a:ext cx="0" cy="55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721400"/>
            <a:ext cx="0" cy="55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5278320"/>
            <a:ext cx="0" cy="5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838840"/>
            <a:ext cx="0" cy="511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6350040"/>
            <a:ext cx="42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304812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60504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16412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72140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27832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2462040"/>
            <a:ext cx="0" cy="337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2462040"/>
            <a:ext cx="0" cy="337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1905120"/>
            <a:ext cx="0" cy="55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46204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635004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838840"/>
            <a:ext cx="0" cy="511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838840"/>
            <a:ext cx="42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8400" y="5838840"/>
            <a:ext cx="0" cy="511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832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3844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4804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856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4780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3868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792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38800" y="1905120"/>
            <a:ext cx="599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4804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38560" y="1905120"/>
            <a:ext cx="60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4816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4828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2514600"/>
            <a:ext cx="600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2004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25146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2209680"/>
            <a:ext cx="533520" cy="381240"/>
          </a:xfrm>
          <a:prstGeom prst="line">
            <a:avLst/>
          </a:prstGeom>
          <a:ln w="22320">
            <a:solidFill>
              <a:srgbClr val="3366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2000" y="2212920"/>
            <a:ext cx="538200" cy="971640"/>
          </a:xfrm>
          <a:custGeom>
            <a:avLst/>
            <a:gdLst/>
            <a:ahLst/>
            <a:rect l="l" t="t" r="r" b="b"/>
            <a:pathLst>
              <a:path w="339" h="612">
                <a:moveTo>
                  <a:pt x="0" y="0"/>
                </a:moveTo>
                <a:lnTo>
                  <a:pt x="241" y="169"/>
                </a:lnTo>
                <a:lnTo>
                  <a:pt x="241" y="529"/>
                </a:lnTo>
                <a:lnTo>
                  <a:pt x="339" y="61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9920" y="2220840"/>
            <a:ext cx="1125720" cy="416160"/>
          </a:xfrm>
          <a:custGeom>
            <a:avLst/>
            <a:gdLst/>
            <a:ahLst/>
            <a:rect l="l" t="t" r="r" b="b"/>
            <a:pathLst>
              <a:path w="709" h="262">
                <a:moveTo>
                  <a:pt x="0" y="0"/>
                </a:moveTo>
                <a:lnTo>
                  <a:pt x="226" y="149"/>
                </a:lnTo>
                <a:lnTo>
                  <a:pt x="617" y="154"/>
                </a:lnTo>
                <a:lnTo>
                  <a:pt x="709" y="26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2819520"/>
            <a:ext cx="457200" cy="380880"/>
          </a:xfrm>
          <a:prstGeom prst="line">
            <a:avLst/>
          </a:prstGeom>
          <a:ln w="22320">
            <a:solidFill>
              <a:srgbClr val="3366ff"/>
            </a:solidFill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209680"/>
            <a:ext cx="500040" cy="1554120"/>
          </a:xfrm>
          <a:custGeom>
            <a:avLst/>
            <a:gdLst/>
            <a:ahLst/>
            <a:rect l="l" t="t" r="r" b="b"/>
            <a:pathLst>
              <a:path w="315" h="979">
                <a:moveTo>
                  <a:pt x="0" y="0"/>
                </a:moveTo>
                <a:lnTo>
                  <a:pt x="239" y="172"/>
                </a:lnTo>
                <a:lnTo>
                  <a:pt x="243" y="891"/>
                </a:lnTo>
                <a:lnTo>
                  <a:pt x="315" y="979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38440" y="3322800"/>
            <a:ext cx="1046160" cy="392040"/>
          </a:xfrm>
          <a:custGeom>
            <a:avLst/>
            <a:gdLst/>
            <a:ahLst/>
            <a:rect l="l" t="t" r="r" b="b"/>
            <a:pathLst>
              <a:path w="659" h="247">
                <a:moveTo>
                  <a:pt x="0" y="0"/>
                </a:moveTo>
                <a:lnTo>
                  <a:pt x="201" y="180"/>
                </a:lnTo>
                <a:lnTo>
                  <a:pt x="571" y="180"/>
                </a:lnTo>
                <a:lnTo>
                  <a:pt x="659" y="247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848720" y="2590920"/>
            <a:ext cx="1294920" cy="685800"/>
            <a:chOff x="7848720" y="2590920"/>
            <a:chExt cx="1294920" cy="685800"/>
          </a:xfrm>
        </p:grpSpPr>
        <p:sp>
          <p:nvSpPr>
            <p:cNvPr id="233" name=""/>
            <p:cNvSpPr/>
            <p:nvPr/>
          </p:nvSpPr>
          <p:spPr>
            <a:xfrm>
              <a:off x="7848720" y="2590920"/>
              <a:ext cx="129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8720" y="266688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maining sequ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052640" y="2220840"/>
            <a:ext cx="1731960" cy="335160"/>
          </a:xfrm>
          <a:custGeom>
            <a:avLst/>
            <a:gdLst/>
            <a:ahLst/>
            <a:rect l="l" t="t" r="r" b="b"/>
            <a:pathLst>
              <a:path w="1091" h="211">
                <a:moveTo>
                  <a:pt x="0" y="0"/>
                </a:moveTo>
                <a:lnTo>
                  <a:pt x="247" y="154"/>
                </a:lnTo>
                <a:lnTo>
                  <a:pt x="1003" y="154"/>
                </a:lnTo>
                <a:lnTo>
                  <a:pt x="1091" y="211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2590920"/>
            <a:ext cx="10666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2895480"/>
            <a:ext cx="10666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059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581280"/>
            <a:ext cx="60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3657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76600" y="3048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2514600"/>
            <a:ext cx="60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38440" y="3314880"/>
            <a:ext cx="457200" cy="39996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0" y="0"/>
                </a:moveTo>
                <a:lnTo>
                  <a:pt x="288" y="25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47800" y="2824200"/>
            <a:ext cx="439920" cy="882720"/>
          </a:xfrm>
          <a:custGeom>
            <a:avLst/>
            <a:gdLst/>
            <a:ahLst/>
            <a:rect l="l" t="t" r="r" b="b"/>
            <a:pathLst>
              <a:path w="277" h="556">
                <a:moveTo>
                  <a:pt x="0" y="0"/>
                </a:moveTo>
                <a:lnTo>
                  <a:pt x="185" y="139"/>
                </a:lnTo>
                <a:lnTo>
                  <a:pt x="190" y="484"/>
                </a:lnTo>
                <a:lnTo>
                  <a:pt x="277" y="556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27400" y="3290760"/>
            <a:ext cx="431640" cy="424080"/>
          </a:xfrm>
          <a:custGeom>
            <a:avLst/>
            <a:gdLst/>
            <a:ahLst/>
            <a:rect l="l" t="t" r="r" b="b"/>
            <a:pathLst>
              <a:path w="272" h="267">
                <a:moveTo>
                  <a:pt x="0" y="0"/>
                </a:moveTo>
                <a:lnTo>
                  <a:pt x="272" y="267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27400" y="2766960"/>
            <a:ext cx="431640" cy="924120"/>
          </a:xfrm>
          <a:custGeom>
            <a:avLst/>
            <a:gdLst/>
            <a:ahLst/>
            <a:rect l="l" t="t" r="r" b="b"/>
            <a:pathLst>
              <a:path w="272" h="582">
                <a:moveTo>
                  <a:pt x="0" y="0"/>
                </a:moveTo>
                <a:lnTo>
                  <a:pt x="200" y="175"/>
                </a:lnTo>
                <a:lnTo>
                  <a:pt x="200" y="540"/>
                </a:lnTo>
                <a:lnTo>
                  <a:pt x="272" y="58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2824200"/>
            <a:ext cx="1044720" cy="334800"/>
          </a:xfrm>
          <a:custGeom>
            <a:avLst/>
            <a:gdLst/>
            <a:ahLst/>
            <a:rect l="l" t="t" r="r" b="b"/>
            <a:pathLst>
              <a:path w="658" h="211">
                <a:moveTo>
                  <a:pt x="0" y="0"/>
                </a:moveTo>
                <a:lnTo>
                  <a:pt x="175" y="144"/>
                </a:lnTo>
                <a:lnTo>
                  <a:pt x="560" y="139"/>
                </a:lnTo>
                <a:lnTo>
                  <a:pt x="658" y="211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0574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Inclu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2286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c"/>
                </a:solidFill>
                <a:latin typeface="Arial"/>
              </a:rPr>
              <a:t>END C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2590920"/>
            <a:ext cx="38124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2895480"/>
            <a:ext cx="3049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2590920"/>
            <a:ext cx="3049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29400" y="2590920"/>
            <a:ext cx="8380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467480" y="2590560"/>
            <a:ext cx="0" cy="6858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27400" y="2766960"/>
            <a:ext cx="449280" cy="384120"/>
          </a:xfrm>
          <a:custGeom>
            <a:avLst/>
            <a:gdLst/>
            <a:ahLst/>
            <a:rect l="l" t="t" r="r" b="b"/>
            <a:pathLst>
              <a:path w="283" h="242">
                <a:moveTo>
                  <a:pt x="0" y="0"/>
                </a:moveTo>
                <a:lnTo>
                  <a:pt x="283" y="24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442800"/>
            <a:ext cx="54864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 the scores for each individual amino acid pai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439560"/>
            <a:ext cx="54864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 the best scores up to each amino acid pai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2590920"/>
            <a:ext cx="30456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590920"/>
            <a:ext cx="762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2640" y="2212920"/>
            <a:ext cx="539640" cy="2073240"/>
          </a:xfrm>
          <a:custGeom>
            <a:avLst/>
            <a:gdLst/>
            <a:ahLst/>
            <a:rect l="l" t="t" r="r" b="b"/>
            <a:pathLst>
              <a:path w="340" h="1306">
                <a:moveTo>
                  <a:pt x="0" y="0"/>
                </a:moveTo>
                <a:lnTo>
                  <a:pt x="247" y="159"/>
                </a:lnTo>
                <a:lnTo>
                  <a:pt x="247" y="1229"/>
                </a:lnTo>
                <a:lnTo>
                  <a:pt x="340" y="1306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191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47800" y="2833560"/>
            <a:ext cx="447840" cy="1452600"/>
          </a:xfrm>
          <a:custGeom>
            <a:avLst/>
            <a:gdLst/>
            <a:ahLst/>
            <a:rect l="l" t="t" r="r" b="b"/>
            <a:pathLst>
              <a:path w="282" h="915">
                <a:moveTo>
                  <a:pt x="0" y="0"/>
                </a:moveTo>
                <a:lnTo>
                  <a:pt x="185" y="133"/>
                </a:lnTo>
                <a:lnTo>
                  <a:pt x="190" y="833"/>
                </a:lnTo>
                <a:lnTo>
                  <a:pt x="282" y="915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4191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059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249696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8440" y="3330720"/>
            <a:ext cx="449280" cy="939600"/>
          </a:xfrm>
          <a:custGeom>
            <a:avLst/>
            <a:gdLst/>
            <a:ahLst/>
            <a:rect l="l" t="t" r="r" b="b"/>
            <a:pathLst>
              <a:path w="283" h="592">
                <a:moveTo>
                  <a:pt x="0" y="0"/>
                </a:moveTo>
                <a:lnTo>
                  <a:pt x="191" y="170"/>
                </a:lnTo>
                <a:lnTo>
                  <a:pt x="191" y="525"/>
                </a:lnTo>
                <a:lnTo>
                  <a:pt x="283" y="59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886200"/>
            <a:ext cx="427320" cy="384120"/>
          </a:xfrm>
          <a:custGeom>
            <a:avLst/>
            <a:gdLst/>
            <a:ahLst/>
            <a:rect l="l" t="t" r="r" b="b"/>
            <a:pathLst>
              <a:path w="269" h="242">
                <a:moveTo>
                  <a:pt x="0" y="0"/>
                </a:moveTo>
                <a:lnTo>
                  <a:pt x="269" y="242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57280" y="3657600"/>
            <a:ext cx="60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19480" y="2776680"/>
            <a:ext cx="480960" cy="1509480"/>
          </a:xfrm>
          <a:custGeom>
            <a:avLst/>
            <a:gdLst/>
            <a:ahLst/>
            <a:rect l="l" t="t" r="r" b="b"/>
            <a:pathLst>
              <a:path w="303" h="951">
                <a:moveTo>
                  <a:pt x="0" y="0"/>
                </a:moveTo>
                <a:lnTo>
                  <a:pt x="205" y="164"/>
                </a:lnTo>
                <a:lnTo>
                  <a:pt x="205" y="864"/>
                </a:lnTo>
                <a:lnTo>
                  <a:pt x="303" y="951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19480" y="3298680"/>
            <a:ext cx="465120" cy="995400"/>
          </a:xfrm>
          <a:custGeom>
            <a:avLst/>
            <a:gdLst/>
            <a:ahLst/>
            <a:rect l="l" t="t" r="r" b="b"/>
            <a:pathLst>
              <a:path w="293" h="627">
                <a:moveTo>
                  <a:pt x="0" y="0"/>
                </a:moveTo>
                <a:lnTo>
                  <a:pt x="200" y="195"/>
                </a:lnTo>
                <a:lnTo>
                  <a:pt x="210" y="540"/>
                </a:lnTo>
                <a:lnTo>
                  <a:pt x="293" y="627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43240" y="3852720"/>
            <a:ext cx="449280" cy="433440"/>
          </a:xfrm>
          <a:custGeom>
            <a:avLst/>
            <a:gdLst/>
            <a:ahLst/>
            <a:rect l="l" t="t" r="r" b="b"/>
            <a:pathLst>
              <a:path w="283" h="273">
                <a:moveTo>
                  <a:pt x="0" y="0"/>
                </a:moveTo>
                <a:lnTo>
                  <a:pt x="283" y="273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5720" y="3894120"/>
            <a:ext cx="1036800" cy="407880"/>
          </a:xfrm>
          <a:custGeom>
            <a:avLst/>
            <a:gdLst/>
            <a:ahLst/>
            <a:rect l="l" t="t" r="r" b="b"/>
            <a:pathLst>
              <a:path w="653" h="257">
                <a:moveTo>
                  <a:pt x="0" y="0"/>
                </a:moveTo>
                <a:lnTo>
                  <a:pt x="180" y="170"/>
                </a:lnTo>
                <a:lnTo>
                  <a:pt x="560" y="165"/>
                </a:lnTo>
                <a:lnTo>
                  <a:pt x="653" y="257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05920" y="4419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4167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2819520"/>
            <a:ext cx="514440" cy="1589040"/>
          </a:xfrm>
          <a:custGeom>
            <a:avLst/>
            <a:gdLst/>
            <a:ahLst/>
            <a:rect l="l" t="t" r="r" b="b"/>
            <a:pathLst>
              <a:path w="324" h="1001">
                <a:moveTo>
                  <a:pt x="0" y="0"/>
                </a:moveTo>
                <a:lnTo>
                  <a:pt x="165" y="132"/>
                </a:lnTo>
                <a:lnTo>
                  <a:pt x="170" y="842"/>
                </a:lnTo>
                <a:lnTo>
                  <a:pt x="324" y="1001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3352680"/>
            <a:ext cx="574920" cy="1040040"/>
          </a:xfrm>
          <a:custGeom>
            <a:avLst/>
            <a:gdLst/>
            <a:ahLst/>
            <a:rect l="l" t="t" r="r" b="b"/>
            <a:pathLst>
              <a:path w="362" h="655">
                <a:moveTo>
                  <a:pt x="0" y="0"/>
                </a:moveTo>
                <a:lnTo>
                  <a:pt x="207" y="156"/>
                </a:lnTo>
                <a:lnTo>
                  <a:pt x="223" y="506"/>
                </a:lnTo>
                <a:lnTo>
                  <a:pt x="362" y="655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22480" y="3878280"/>
            <a:ext cx="547920" cy="488880"/>
          </a:xfrm>
          <a:custGeom>
            <a:avLst/>
            <a:gdLst/>
            <a:ahLst/>
            <a:rect l="l" t="t" r="r" b="b"/>
            <a:pathLst>
              <a:path w="345" h="308">
                <a:moveTo>
                  <a:pt x="0" y="0"/>
                </a:moveTo>
                <a:lnTo>
                  <a:pt x="345" y="308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3886200"/>
            <a:ext cx="1116000" cy="514440"/>
          </a:xfrm>
          <a:custGeom>
            <a:avLst/>
            <a:gdLst/>
            <a:ahLst/>
            <a:rect l="l" t="t" r="r" b="b"/>
            <a:pathLst>
              <a:path w="703" h="324">
                <a:moveTo>
                  <a:pt x="0" y="0"/>
                </a:moveTo>
                <a:lnTo>
                  <a:pt x="183" y="165"/>
                </a:lnTo>
                <a:lnTo>
                  <a:pt x="564" y="159"/>
                </a:lnTo>
                <a:lnTo>
                  <a:pt x="703" y="324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3886200"/>
            <a:ext cx="1725840" cy="506520"/>
          </a:xfrm>
          <a:custGeom>
            <a:avLst/>
            <a:gdLst/>
            <a:ahLst/>
            <a:rect l="l" t="t" r="r" b="b"/>
            <a:pathLst>
              <a:path w="1087" h="319">
                <a:moveTo>
                  <a:pt x="0" y="0"/>
                </a:moveTo>
                <a:lnTo>
                  <a:pt x="182" y="154"/>
                </a:lnTo>
                <a:lnTo>
                  <a:pt x="943" y="159"/>
                </a:lnTo>
                <a:lnTo>
                  <a:pt x="1087" y="319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514600"/>
            <a:ext cx="30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05920" y="4800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674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360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490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988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25146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976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908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908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25146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908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38560" y="58435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3856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3856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3856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38560" y="25146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2590920"/>
            <a:ext cx="6094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2590920"/>
            <a:ext cx="3429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44 L -0.04167 -0.0044 E">
                                      <p:cBhvr>
                                        <p:cTn id="58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6 0 E">
                                      <p:cBhvr>
                                        <p:cTn id="59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3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96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12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5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6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3.33333E-006 L -0.075 3.33333E-006 E">
                                      <p:cBhvr>
                                        <p:cTn id="6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-0.0044 L -0.08333 -0.0044 E">
                                      <p:cBhvr>
                                        <p:cTn id="64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65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68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71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677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7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1.11111E-006 L -0.04167 1.11111E-006 E">
                                      <p:cBhvr>
                                        <p:cTn id="7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13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16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719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2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33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752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55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8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64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1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767" dur="1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1.11111E-006 L -0.11667 1.11111E-006 E">
                                      <p:cBhvr>
                                        <p:cTn id="77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044 L -0.05 -0.0044 E">
                                      <p:cBhvr>
                                        <p:cTn id="77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4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95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98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01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4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807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810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-0.0044 L -0.08333 -0.0044 E">
                                      <p:cBhvr>
                                        <p:cTn id="8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8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32" dur="1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8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3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74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77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880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886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889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892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0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907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044 L -0.125 -0.0044 E">
                                      <p:cBhvr>
                                        <p:cTn id="90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1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26" dur="1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57" dur="1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1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02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4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05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08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11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3" dur="1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4" dur="1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1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9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020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2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023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5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026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3.33333E-006 L -0.11666 3.33333E-006 E">
                                      <p:cBhvr>
                                        <p:cTn id="103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0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1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55" dur="1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6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87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9" dur="1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0" dur="1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09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5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96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8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99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3.33333E-006 L -0.08333 3.33333E-006 E">
                                      <p:cBhvr>
                                        <p:cTn id="111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120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6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37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9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0" dur="1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1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3" dur="1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1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146" dur="1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1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49" dur="1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52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 -0.0044 L -0.05 -0.0044 E">
                                      <p:cBhvr>
                                        <p:cTn id="115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-2.59259E-006 L -0.15833 -2.59259E-006 E">
                                      <p:cBhvr>
                                        <p:cTn id="115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0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81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4" dur="1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6" dur="1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187" dur="1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190" dur="1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5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96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8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99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202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-0.0044 L -0.08333 -0.0044 E">
                                      <p:cBhvr>
                                        <p:cTn id="120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2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9" dur="1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40" dur="1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2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1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68" dur="1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5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6" dur="1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8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99" dur="1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1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302" dur="1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4" dur="1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305" dur="1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7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8" dur="1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044 L -0.125 -0.0044 E">
                                      <p:cBhvr>
                                        <p:cTn id="131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43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46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49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1" dur="1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352" dur="1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2" dur="1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3" dur="1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7" dur="1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3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11" dur="1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4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8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439" dur="1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442" dur="1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1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445" dur="1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4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1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486" dur="1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89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92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95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1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98" dur="1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0" dur="1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1" dur="1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 -0.0044 L -0.15834 -0.0044 E">
                                      <p:cBhvr>
                                        <p:cTn id="150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52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1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33" dur="1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5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7" dur="1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58" dur="1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5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9" dur="1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80" dur="1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5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5" dur="1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06" dur="1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6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1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6" dur="1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1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9" dur="1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1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52" dur="1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4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55" dur="1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6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17" dur="1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9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20" dur="1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2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23" dur="1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5" dur="1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26" dur="1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31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"/>
                            </p:stCondLst>
                            <p:childTnLst>
                              <p:par>
                                <p:cTn id="183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6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37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00"/>
                            </p:stCondLst>
                            <p:childTnLst>
                              <p:par>
                                <p:cTn id="184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43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300"/>
                            </p:stCondLst>
                            <p:childTnLst>
                              <p:par>
                                <p:cTn id="18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8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4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400"/>
                            </p:stCondLst>
                            <p:childTnLst>
                              <p:par>
                                <p:cTn id="185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4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55" dur="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500"/>
                            </p:stCondLst>
                            <p:childTnLst>
                              <p:par>
                                <p:cTn id="18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6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600"/>
                            </p:stCondLst>
                            <p:childTnLst>
                              <p:par>
                                <p:cTn id="18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67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700"/>
                            </p:stCondLst>
                            <p:childTnLst>
                              <p:par>
                                <p:cTn id="187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2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7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800"/>
                            </p:stCondLst>
                            <p:childTnLst>
                              <p:par>
                                <p:cTn id="18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8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79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900"/>
                            </p:stCondLst>
                            <p:childTnLst>
                              <p:par>
                                <p:cTn id="188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85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0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91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100"/>
                            </p:stCondLst>
                            <p:childTnLst>
                              <p:par>
                                <p:cTn id="18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6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97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200"/>
                            </p:stCondLst>
                            <p:childTnLst>
                              <p:par>
                                <p:cTn id="19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2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3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1300"/>
                            </p:stCondLst>
                            <p:childTnLst>
                              <p:par>
                                <p:cTn id="19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0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1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0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21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192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2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33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93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8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39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900"/>
                            </p:stCondLst>
                            <p:childTnLst>
                              <p:par>
                                <p:cTn id="19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4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45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0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51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6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57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2200"/>
                            </p:stCondLst>
                            <p:childTnLst>
                              <p:par>
                                <p:cTn id="19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2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63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300"/>
                            </p:stCondLst>
                            <p:childTnLst>
                              <p:par>
                                <p:cTn id="19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8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69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400"/>
                            </p:stCondLst>
                            <p:childTnLst>
                              <p:par>
                                <p:cTn id="19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4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75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81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2600"/>
                            </p:stCondLst>
                            <p:childTnLst>
                              <p:par>
                                <p:cTn id="19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87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2700"/>
                            </p:stCondLst>
                            <p:childTnLst>
                              <p:par>
                                <p:cTn id="199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93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2800"/>
                            </p:stCondLst>
                            <p:childTnLst>
                              <p:par>
                                <p:cTn id="199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8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99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2900"/>
                            </p:stCondLst>
                            <p:childTnLst>
                              <p:par>
                                <p:cTn id="200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05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0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1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3100"/>
                            </p:stCondLst>
                            <p:childTnLst>
                              <p:par>
                                <p:cTn id="201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6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17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3200"/>
                            </p:stCondLst>
                            <p:childTnLst>
                              <p:par>
                                <p:cTn id="20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2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23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3300"/>
                            </p:stCondLst>
                            <p:childTnLst>
                              <p:par>
                                <p:cTn id="202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8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2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3400"/>
                            </p:stCondLst>
                            <p:childTnLst>
                              <p:par>
                                <p:cTn id="20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35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0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04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419720" y="41148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1972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3886200" y="4114800"/>
            <a:ext cx="55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724280"/>
            <a:ext cx="609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1972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16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25146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4828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38560" y="2490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3581280"/>
            <a:ext cx="60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3581280"/>
            <a:ext cx="60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48280" y="5838840"/>
            <a:ext cx="60012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4816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804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792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586728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48040" y="5838840"/>
            <a:ext cx="599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47800" y="583884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52578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4816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4804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7400" y="525780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7800" y="5278320"/>
            <a:ext cx="6001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48280" y="472140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9880" y="4724280"/>
            <a:ext cx="638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4724280"/>
            <a:ext cx="676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724280"/>
            <a:ext cx="676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048040" y="472140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472140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7800" y="472140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4828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792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4780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4191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191120"/>
            <a:ext cx="600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7800" y="416412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4828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4816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804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7920" y="360504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581280"/>
            <a:ext cx="60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358128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4828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816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804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3048120"/>
            <a:ext cx="6764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478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48040" y="30481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78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804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792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4780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48040" y="2462040"/>
            <a:ext cx="5997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462040"/>
            <a:ext cx="6001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47800" y="2462040"/>
            <a:ext cx="60012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4828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4816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804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4792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47800" y="1905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48040" y="19051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1905120"/>
            <a:ext cx="60012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6350040"/>
            <a:ext cx="42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4812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360504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416412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47920" y="472140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527832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2462040"/>
            <a:ext cx="0" cy="337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48400" y="2462040"/>
            <a:ext cx="0" cy="337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2462040"/>
            <a:ext cx="420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5838840"/>
            <a:ext cx="0" cy="511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5838840"/>
            <a:ext cx="4200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48400" y="5838840"/>
            <a:ext cx="0" cy="511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4804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64780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4792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4804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2514600"/>
            <a:ext cx="6001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2004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2490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3657600"/>
            <a:ext cx="60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3048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2514600"/>
            <a:ext cx="60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4191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191120"/>
            <a:ext cx="6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3657600"/>
            <a:ext cx="60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490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740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9556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7188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862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514600"/>
            <a:ext cx="609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05740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976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8910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58910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8910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58910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29080" y="58910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5867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38560" y="531036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47242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4191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36338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30481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457200"/>
            <a:ext cx="2438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5334120" y="6095160"/>
            <a:ext cx="457200" cy="381240"/>
          </a:xfrm>
          <a:custGeom>
            <a:avLst/>
            <a:gdLst/>
            <a:ahLst/>
            <a:rect l="l" t="t" r="r" b="b"/>
            <a:pathLst>
              <a:path w="345" h="308">
                <a:moveTo>
                  <a:pt x="0" y="0"/>
                </a:moveTo>
                <a:lnTo>
                  <a:pt x="345" y="308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4724280" y="5562000"/>
            <a:ext cx="609840" cy="533160"/>
          </a:xfrm>
          <a:custGeom>
            <a:avLst/>
            <a:gdLst/>
            <a:ahLst/>
            <a:rect l="l" t="t" r="r" b="b"/>
            <a:pathLst>
              <a:path w="345" h="308">
                <a:moveTo>
                  <a:pt x="0" y="0"/>
                </a:moveTo>
                <a:lnTo>
                  <a:pt x="345" y="308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0" y="4948200"/>
            <a:ext cx="1214280" cy="614520"/>
          </a:xfrm>
          <a:custGeom>
            <a:avLst/>
            <a:gdLst/>
            <a:ahLst/>
            <a:rect l="l" t="t" r="r" b="b"/>
            <a:pathLst>
              <a:path w="765" h="387">
                <a:moveTo>
                  <a:pt x="765" y="387"/>
                </a:moveTo>
                <a:lnTo>
                  <a:pt x="587" y="205"/>
                </a:lnTo>
                <a:lnTo>
                  <a:pt x="216" y="20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895480" y="4419000"/>
            <a:ext cx="609840" cy="533160"/>
          </a:xfrm>
          <a:custGeom>
            <a:avLst/>
            <a:gdLst/>
            <a:ahLst/>
            <a:rect l="l" t="t" r="r" b="b"/>
            <a:pathLst>
              <a:path w="345" h="308">
                <a:moveTo>
                  <a:pt x="0" y="0"/>
                </a:moveTo>
                <a:lnTo>
                  <a:pt x="345" y="308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67000" y="3273480"/>
            <a:ext cx="528480" cy="1146240"/>
          </a:xfrm>
          <a:custGeom>
            <a:avLst/>
            <a:gdLst/>
            <a:ahLst/>
            <a:rect l="l" t="t" r="r" b="b"/>
            <a:pathLst>
              <a:path w="333" h="722">
                <a:moveTo>
                  <a:pt x="333" y="722"/>
                </a:moveTo>
                <a:lnTo>
                  <a:pt x="170" y="551"/>
                </a:lnTo>
                <a:lnTo>
                  <a:pt x="175" y="206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1752480" y="2743200"/>
            <a:ext cx="609840" cy="533520"/>
          </a:xfrm>
          <a:custGeom>
            <a:avLst/>
            <a:gdLst/>
            <a:ahLst/>
            <a:rect l="l" t="t" r="r" b="b"/>
            <a:pathLst>
              <a:path w="345" h="308">
                <a:moveTo>
                  <a:pt x="0" y="0"/>
                </a:moveTo>
                <a:lnTo>
                  <a:pt x="345" y="308"/>
                </a:lnTo>
              </a:path>
            </a:pathLst>
          </a:custGeom>
          <a:noFill/>
          <a:ln w="22320">
            <a:solidFill>
              <a:srgbClr val="33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09880" y="589104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4828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48160" y="2462040"/>
            <a:ext cx="0" cy="388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34240" y="1143000"/>
            <a:ext cx="599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1430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114300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1143000"/>
            <a:ext cx="600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19640" y="1143000"/>
            <a:ext cx="599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1166760"/>
            <a:ext cx="6001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934240" y="609480"/>
            <a:ext cx="599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86400" y="6094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19840" y="609480"/>
            <a:ext cx="599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6094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19640" y="609480"/>
            <a:ext cx="599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09800" y="609480"/>
            <a:ext cx="60012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114300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15120" y="6094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038480" y="60948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1143000"/>
            <a:ext cx="30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759040"/>
            <a:ext cx="4035600" cy="3718080"/>
          </a:xfrm>
          <a:custGeom>
            <a:avLst/>
            <a:gdLst/>
            <a:ahLst/>
            <a:rect l="l" t="t" r="r" b="b"/>
            <a:pathLst>
              <a:path w="2542" h="2342">
                <a:moveTo>
                  <a:pt x="2542" y="2342"/>
                </a:moveTo>
                <a:lnTo>
                  <a:pt x="2072" y="1939"/>
                </a:lnTo>
                <a:lnTo>
                  <a:pt x="1692" y="1939"/>
                </a:lnTo>
                <a:lnTo>
                  <a:pt x="1327" y="1584"/>
                </a:lnTo>
                <a:lnTo>
                  <a:pt x="941" y="1250"/>
                </a:lnTo>
                <a:lnTo>
                  <a:pt x="939" y="896"/>
                </a:lnTo>
                <a:lnTo>
                  <a:pt x="564" y="539"/>
                </a:lnTo>
                <a:lnTo>
                  <a:pt x="195" y="16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52480" y="2743200"/>
            <a:ext cx="4035600" cy="3718080"/>
          </a:xfrm>
          <a:custGeom>
            <a:avLst/>
            <a:gdLst/>
            <a:ahLst/>
            <a:rect l="l" t="t" r="r" b="b"/>
            <a:pathLst>
              <a:path w="2542" h="2342">
                <a:moveTo>
                  <a:pt x="2542" y="2342"/>
                </a:moveTo>
                <a:lnTo>
                  <a:pt x="2072" y="1939"/>
                </a:lnTo>
                <a:lnTo>
                  <a:pt x="1692" y="1939"/>
                </a:lnTo>
                <a:lnTo>
                  <a:pt x="1327" y="1584"/>
                </a:lnTo>
                <a:lnTo>
                  <a:pt x="941" y="1250"/>
                </a:lnTo>
                <a:lnTo>
                  <a:pt x="555" y="880"/>
                </a:lnTo>
                <a:lnTo>
                  <a:pt x="555" y="535"/>
                </a:lnTo>
                <a:lnTo>
                  <a:pt x="195" y="16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52480" y="2759040"/>
            <a:ext cx="4035600" cy="3718080"/>
          </a:xfrm>
          <a:custGeom>
            <a:avLst/>
            <a:gdLst/>
            <a:ahLst/>
            <a:rect l="l" t="t" r="r" b="b"/>
            <a:pathLst>
              <a:path w="2542" h="2342">
                <a:moveTo>
                  <a:pt x="2542" y="2342"/>
                </a:moveTo>
                <a:lnTo>
                  <a:pt x="2072" y="1939"/>
                </a:lnTo>
                <a:lnTo>
                  <a:pt x="1687" y="1580"/>
                </a:lnTo>
                <a:lnTo>
                  <a:pt x="1327" y="1584"/>
                </a:lnTo>
                <a:lnTo>
                  <a:pt x="941" y="1250"/>
                </a:lnTo>
                <a:lnTo>
                  <a:pt x="939" y="896"/>
                </a:lnTo>
                <a:lnTo>
                  <a:pt x="564" y="539"/>
                </a:lnTo>
                <a:lnTo>
                  <a:pt x="195" y="16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861160" y="3646440"/>
            <a:ext cx="1895400" cy="307080"/>
            <a:chOff x="5861160" y="3646440"/>
            <a:chExt cx="1895400" cy="307080"/>
          </a:xfrm>
        </p:grpSpPr>
        <p:sp>
          <p:nvSpPr>
            <p:cNvPr id="505" name=""/>
            <p:cNvSpPr/>
            <p:nvPr/>
          </p:nvSpPr>
          <p:spPr>
            <a:xfrm>
              <a:off x="7232760" y="364644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04160" y="364644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75560" y="364644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46960" y="364644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89760" y="364644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61160" y="364644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51640" y="364644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18360" y="3646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861160" y="3951360"/>
            <a:ext cx="1911240" cy="315720"/>
            <a:chOff x="5861160" y="3951360"/>
            <a:chExt cx="1911240" cy="315720"/>
          </a:xfrm>
        </p:grpSpPr>
        <p:sp>
          <p:nvSpPr>
            <p:cNvPr id="514" name=""/>
            <p:cNvSpPr/>
            <p:nvPr/>
          </p:nvSpPr>
          <p:spPr>
            <a:xfrm>
              <a:off x="7010280" y="395136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75560" y="395136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46960" y="395136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8360" y="395136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89760" y="395136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61160" y="3951360"/>
              <a:ext cx="317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61360" y="3951360"/>
              <a:ext cx="3110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3800" y="3951360"/>
              <a:ext cx="1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861160" y="4637160"/>
            <a:ext cx="1895400" cy="307080"/>
            <a:chOff x="5861160" y="4637160"/>
            <a:chExt cx="1895400" cy="307080"/>
          </a:xfrm>
        </p:grpSpPr>
        <p:sp>
          <p:nvSpPr>
            <p:cNvPr id="523" name=""/>
            <p:cNvSpPr/>
            <p:nvPr/>
          </p:nvSpPr>
          <p:spPr>
            <a:xfrm>
              <a:off x="7232760" y="4637160"/>
              <a:ext cx="304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04160" y="4637160"/>
              <a:ext cx="304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75560" y="4637160"/>
              <a:ext cx="30456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4643280"/>
              <a:ext cx="304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89760" y="4637160"/>
              <a:ext cx="3175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61160" y="4637160"/>
              <a:ext cx="3175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51640" y="4637160"/>
              <a:ext cx="30492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29400" y="4637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861160" y="4941720"/>
            <a:ext cx="1911240" cy="315720"/>
            <a:chOff x="5861160" y="4941720"/>
            <a:chExt cx="1911240" cy="315720"/>
          </a:xfrm>
        </p:grpSpPr>
        <p:sp>
          <p:nvSpPr>
            <p:cNvPr id="532" name=""/>
            <p:cNvSpPr/>
            <p:nvPr/>
          </p:nvSpPr>
          <p:spPr>
            <a:xfrm>
              <a:off x="7238880" y="49417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75560" y="494172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46960" y="4941720"/>
              <a:ext cx="304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18360" y="4941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89760" y="494172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61160" y="4941720"/>
              <a:ext cx="3175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1360" y="4941720"/>
              <a:ext cx="3110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45200" y="4941720"/>
              <a:ext cx="1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867280" y="2590920"/>
            <a:ext cx="1895760" cy="307080"/>
            <a:chOff x="5867280" y="2590920"/>
            <a:chExt cx="1895760" cy="307080"/>
          </a:xfrm>
        </p:grpSpPr>
        <p:sp>
          <p:nvSpPr>
            <p:cNvPr id="541" name=""/>
            <p:cNvSpPr/>
            <p:nvPr/>
          </p:nvSpPr>
          <p:spPr>
            <a:xfrm>
              <a:off x="7238880" y="259092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10280" y="259092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1680" y="259092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24480" y="259704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5880" y="259092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67280" y="259092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58120" y="259092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294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867280" y="2895480"/>
            <a:ext cx="1911600" cy="316080"/>
            <a:chOff x="5867280" y="2895480"/>
            <a:chExt cx="1911600" cy="316080"/>
          </a:xfrm>
        </p:grpSpPr>
        <p:sp>
          <p:nvSpPr>
            <p:cNvPr id="550" name=""/>
            <p:cNvSpPr/>
            <p:nvPr/>
          </p:nvSpPr>
          <p:spPr>
            <a:xfrm>
              <a:off x="7016760" y="28954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81680" y="289548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3080" y="2895480"/>
              <a:ext cx="3049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28954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5880" y="2895480"/>
              <a:ext cx="3175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67280" y="2895480"/>
              <a:ext cx="31752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67480" y="2895480"/>
              <a:ext cx="31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80280" y="2895480"/>
              <a:ext cx="1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4" dur="indefinite" restart="never" nodeType="tmRoot">
          <p:childTnLst>
            <p:seq>
              <p:cTn id="2045" dur="indefinite" nodeType="mainSeq">
                <p:childTnLst>
                  <p:par>
                    <p:cTn id="2046" fill="hold">
                      <p:stCondLst>
                        <p:cond delay="0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9" dur="1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50" dur="1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2" dur="1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53" dur="1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5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56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8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59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1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62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4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65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7" dur="1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68" dur="1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0" dur="1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71" dur="1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3" dur="1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74" dur="1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6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77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9" dur="1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80" dur="1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2" dur="1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83" dur="1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5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2f3fc"/>
                                      </p:to>
                                    </p:animClr>
                                    <p:set>
                                      <p:cBhvr>
                                        <p:cTn id="2086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0"/>
                            </p:stCondLst>
                            <p:childTnLst>
                              <p:par>
                                <p:cTn id="2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094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95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097" dur="1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098" dur="1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00" dur="1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01" dur="1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03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04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06" dur="1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07" dur="1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09" dur="1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10" dur="1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12" dur="1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13" dur="1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15" dur="1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16" dur="1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18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19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21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22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24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25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27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28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30" dur="1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31" dur="1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39" dur="1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40" dur="1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42" dur="1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3" dur="1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45" dur="1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6" dur="1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48" dur="1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9" dur="1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51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2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54" dur="1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5" dur="1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57" dur="1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8" dur="1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60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1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63" dur="1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4" dur="1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66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7" dur="1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69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0" dur="1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72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3" dur="1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75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6" dur="1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78" dur="1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9" dur="1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81" dur="1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82" dur="1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84" dur="1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85" dur="1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87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88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90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91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93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94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96" dur="1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197" dur="1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199" dur="1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00" dur="1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02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03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05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06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08" dur="1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09" dur="1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3" nodeType="after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24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25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27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28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30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31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33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34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36" dur="1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37" dur="1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39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40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42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43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45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46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48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49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51" dur="1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2" dur="1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54" dur="1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5" dur="1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57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8" dur="1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60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1" dur="1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63" dur="1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4" dur="1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66" dur="1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7" dur="1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69" dur="1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0" dur="1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72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3" dur="1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75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6" dur="1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78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9" dur="1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81" dur="1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2" dur="1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6" nodeType="after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297" dur="1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298" dur="1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00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01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03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04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06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07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09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10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12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13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15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6" dur="1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18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9" dur="1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21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2" dur="1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24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5" dur="1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27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8" dur="1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30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1" dur="1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33" dur="1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4" dur="1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36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37" dur="1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39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0" dur="1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0" nodeType="after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61" dur="1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62" dur="1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64" dur="1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65" dur="1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67" dur="1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68" dur="1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70" dur="1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371" dur="1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73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4" dur="1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76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7" dur="1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79" dur="1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0" dur="1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82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3" dur="1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85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6" dur="1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388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9" dur="1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3" nodeType="after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404" dur="1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2405" dur="1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407" dur="1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8" dur="1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410" dur="1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1" dur="1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413" dur="1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4" dur="1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2416" dur="1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7" dur="1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3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8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2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7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9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0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0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1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1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2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2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3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3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3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3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4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4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5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5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5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6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6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6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7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7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7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8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8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8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9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9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8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9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0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1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3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1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2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8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2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3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3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7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3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4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4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5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5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6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6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43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5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8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8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7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4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4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25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27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29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31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33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35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37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39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41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43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45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4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49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51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53" dur="2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222 E">
                                      <p:cBhvr>
                                        <p:cTn id="295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934240" y="3352680"/>
            <a:ext cx="599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29200" y="33526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95680" y="3352680"/>
            <a:ext cx="600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3352680"/>
            <a:ext cx="60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19640" y="3352680"/>
            <a:ext cx="599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3376440"/>
            <a:ext cx="60012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34240" y="28195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28195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19840" y="28195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95680" y="28195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19640" y="2819520"/>
            <a:ext cx="5997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09800" y="2819520"/>
            <a:ext cx="60012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24480" y="3352680"/>
            <a:ext cx="600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15120" y="2819520"/>
            <a:ext cx="600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038480" y="2819520"/>
            <a:ext cx="22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62720" y="3352680"/>
            <a:ext cx="304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1092240" cy="1447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2666880" y="1214280"/>
            <a:ext cx="1409760" cy="13957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1233360" cy="1676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5715000" y="3886200"/>
            <a:ext cx="1676520" cy="14698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5715000" y="1219320"/>
            <a:ext cx="1676520" cy="14684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2286000" y="4114800"/>
            <a:ext cx="193824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6" dur="indefinite" restart="never" nodeType="tmRoot">
          <p:childTnLst>
            <p:seq>
              <p:cTn id="2957" dur="indefinite" nodeType="mainSeq">
                <p:childTnLst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100600" y="2325600"/>
            <a:ext cx="53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3300"/>
                </a:solidFill>
                <a:uFillTx/>
                <a:latin typeface="Monotype Corsiva"/>
              </a:rPr>
              <a:t>The End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982" dur="indefinite" restart="never" nodeType="tmRoot">
          <p:childTnLst>
            <p:seq>
              <p:cTn id="2983" dur="indefinite" nodeType="mainSeq">
                <p:childTnLst>
                  <p:par>
                    <p:cTn id="2984" fill="hold">
                      <p:stCondLst>
                        <p:cond delay="0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9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4" dur="2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7:25:24Z</dcterms:created>
  <dc:creator>David Judge</dc:creator>
  <dc:description/>
  <dc:language>en-US</dc:language>
  <cp:lastModifiedBy>David Philip Judge</cp:lastModifiedBy>
  <dcterms:modified xsi:type="dcterms:W3CDTF">2004-07-02T07:47:51Z</dcterms:modified>
  <cp:revision>41</cp:revision>
  <dc:subject/>
  <dc:title>Slide 1</dc:title>
</cp:coreProperties>
</file>